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08E-8E1C-4352-AAED-760C2B48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C03-A944-417E-A5AE-1D254882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4DA-FE19-4A12-ADC7-3AA0C123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061-C86B-455A-B68F-471FF0BE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086-2572-44F8-9985-30C3770C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D52-0F33-41F4-B7C8-00C37574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40B-C469-4FDC-BD88-A1482CF1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86E-A9B9-4F33-BA6A-15537BD0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7B4-0286-4726-8357-04C3983A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693-38F0-448D-B352-6AE4E1DE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834-08FF-4B61-BDED-A3D26759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7BE-BC6F-456A-B9D4-7E3FDAB5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6393-4128-4089-B17D-C1DB6326E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genomics data collection, integration, visualizatio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s functional genomics (microarray, interaction, localization, etc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 to the original data collected and the integrated data via user friendly web tools and convenient bulk 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ata integration and network discovery 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45000" cy="383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5638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ga Troyanskaya’s lab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d Meyers, Adam Wible, Drew Rob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br>
              <a:rPr sz="44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http://function.princeton.edu/magic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7083720" cy="5584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482400">
            <a:off x="2209320" y="395100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999600">
            <a:off x="1828800" y="3123720"/>
            <a:ext cx="1447920" cy="152640"/>
          </a:xfrm>
          <a:prstGeom prst="rightArrow">
            <a:avLst>
              <a:gd name="adj1" fmla="val 50000"/>
              <a:gd name="adj2" fmla="val 23714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949400">
            <a:off x="1915920" y="4682880"/>
            <a:ext cx="3200400" cy="228600"/>
          </a:xfrm>
          <a:prstGeom prst="rightArrow">
            <a:avLst>
              <a:gd name="adj1" fmla="val 50000"/>
              <a:gd name="adj2" fmla="val 35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00200" y="3200400"/>
            <a:ext cx="1295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the system around the GMOD database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code to load functional genomics data and associated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curator tool (perl CGI, makes use of  MAGE-stk and chado modules) that loads experimental design information (but not actual data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new schema module to store new type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work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nd implement software for our specific web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php version working off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ctual genomics data, via command line and curator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up draft schema module, better integrate it with rest of database, send it around to gmod-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over code for web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762120"/>
            <a:ext cx="2479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GD @ Prince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zur Rah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e Ought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 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Wig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Schroe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a Dolin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Bot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762120"/>
            <a:ext cx="242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yanskaya l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m W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w Ro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d Me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ga Troyansk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6:03:17Z</dcterms:created>
  <dc:creator>osX</dc:creator>
  <dc:description/>
  <dc:language>en-US</dc:language>
  <cp:lastModifiedBy>Becket Feierbach</cp:lastModifiedBy>
  <cp:lastPrinted>2005-03-22T22:08:58Z</cp:lastPrinted>
  <dcterms:modified xsi:type="dcterms:W3CDTF">2005-05-15T16:16:38Z</dcterms:modified>
  <cp:revision>65</cp:revision>
  <dc:subject/>
  <dc:title>Utilizing bioinformatics methods and open source packages to create useful functional genomics tools for the research community. </dc:title>
</cp:coreProperties>
</file>